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EF0-41D8-4F78-93F1-4FA261B1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77E-80BB-47F5-9C5F-84BB0BE1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381-9A27-431F-B482-BDC1F054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CAA-DD18-4C63-A74B-E28DE9A4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888-B4F1-4295-B714-37164A7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EB0-C2CE-4A5E-9ABA-BDD229F4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B75-7EC9-4D79-A10E-FE312D15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311-766F-4B00-83EC-08FAE2EE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A4D-0062-4F68-8684-FEB731A0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2BF-616C-48AA-B9B4-19D46C82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ADD-4185-43C7-863F-71FE6EB7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108-21FA-45F5-AEAD-AC0945FD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4043-8D72-440F-A40C-A22F2859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Ultra Bold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"/>
              </a:rPr>
              <a:t>LA RUTINA DE BUZZY EL ABE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BY Meera Pate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arah Christ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Hola! Se llama Buzzy, Buzzy es un abeja. </a:t>
            </a:r>
            <a:r>
              <a:rPr b="1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despiert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 a las nueve y media est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  <a:ea typeface="Arial"/>
              </a:rPr>
              <a:t>á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 m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  <a:ea typeface="Arial"/>
              </a:rPr>
              <a:t>ñ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ana. </a:t>
            </a:r>
            <a:r>
              <a:rPr b="1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levant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 esiguid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52280"/>
            <a:ext cx="8229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6491160"/>
            <a:ext cx="5105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Buzzy se levanta EL</a:t>
            </a:r>
            <a:r>
              <a:rPr b="1" lang="en-US" sz="3600" spc="-1" strike="noStrike">
                <a:solidFill>
                  <a:srgbClr val="808080"/>
                </a:solidFill>
                <a:latin typeface="Gill Sans Ultra Bold Condensed"/>
              </a:rPr>
              <a:t> </a:t>
            </a:r>
            <a:r>
              <a:rPr b="1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lav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 </a:t>
            </a:r>
            <a:r>
              <a:rPr b="1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la cara</a:t>
            </a:r>
            <a:r>
              <a:rPr b="1" lang="en-US" sz="3600" spc="-1" strike="noStrike">
                <a:solidFill>
                  <a:srgbClr val="808080"/>
                </a:solidFill>
                <a:latin typeface="Gill Sans Ultra Bold Condensed"/>
              </a:rPr>
              <a:t> y sus alas. El 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prefiere una </a:t>
            </a:r>
            <a:r>
              <a:rPr b="0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duch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 para un </a:t>
            </a:r>
            <a:r>
              <a:rPr b="1" i="1" lang="en-US" sz="36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baňa</a:t>
            </a:r>
            <a:r>
              <a:rPr b="0" lang="en-US" sz="3600" spc="-1" strike="noStrike">
                <a:solidFill>
                  <a:srgbClr val="808080"/>
                </a:solidFill>
                <a:latin typeface="Gill Sans Ultra Bold Condense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649116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64911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6477120"/>
            <a:ext cx="5029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30240"/>
            <a:ext cx="8229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1" i="1" lang="en-US" sz="40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pone la ropa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. Ahora</a:t>
            </a:r>
            <a:r>
              <a:rPr b="1" lang="en-US" sz="4000" spc="-1" strike="noStrike">
                <a:solidFill>
                  <a:srgbClr val="808080"/>
                </a:solidFill>
                <a:latin typeface="Gill Sans Ultra Bold Condensed"/>
              </a:rPr>
              <a:t> Buzzy est</a:t>
            </a:r>
            <a:r>
              <a:rPr b="1" lang="en-US" sz="4000" spc="-1" strike="noStrike">
                <a:solidFill>
                  <a:srgbClr val="808080"/>
                </a:solidFill>
                <a:latin typeface="Gill Sans Ultra Bold Condensed"/>
                <a:ea typeface="Arial"/>
              </a:rPr>
              <a:t>á</a:t>
            </a:r>
            <a:r>
              <a:rPr b="1" lang="en-US" sz="4000" spc="-1" strike="noStrike">
                <a:solidFill>
                  <a:srgbClr val="808080"/>
                </a:solidFill>
                <a:latin typeface="Gill Sans Ultra Bold Condensed"/>
              </a:rPr>
              <a:t>  muy hambri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Buzzy </a:t>
            </a:r>
            <a:r>
              <a:rPr b="1" i="1" lang="en-US" sz="40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desayuna.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 Está come el miel en </a:t>
            </a:r>
            <a:r>
              <a:rPr b="1" i="1" lang="en-US" sz="40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el pan tostado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. También el gusta comer el nect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477120"/>
            <a:ext cx="5638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29040" y="-519120"/>
            <a:ext cx="205740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Después del desayunar, Buzzy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Gill Sans Ultra Bold Condensed"/>
              </a:rPr>
              <a:t>se cepilla los di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Luego, en la ma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  <a:ea typeface="Arial"/>
              </a:rPr>
              <a:t>ñ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ana, Buzzy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Gill Sans Ultra Bold Condensed"/>
              </a:rPr>
              <a:t>se afeita</a:t>
            </a:r>
            <a:r>
              <a:rPr b="0" lang="en-US" sz="4000" spc="-1" strike="noStrike">
                <a:solidFill>
                  <a:srgbClr val="000000"/>
                </a:solidFill>
                <a:latin typeface="Gill Sans Ultra Bold Condensed"/>
              </a:rPr>
              <a:t> con un navaja y la crema de afeit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6239520"/>
            <a:ext cx="7315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Buzzy está listo para el d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  <a:ea typeface="Arial"/>
              </a:rPr>
              <a:t>í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a. </a:t>
            </a:r>
            <a:r>
              <a:rPr b="1" i="1" lang="en-US" sz="4000" spc="-1" strike="noStrike" u="sng">
                <a:solidFill>
                  <a:srgbClr val="808080"/>
                </a:solidFill>
                <a:uFillTx/>
                <a:latin typeface="Gill Sans Ultra Bold Condensed"/>
              </a:rPr>
              <a:t>Se diverte  </a:t>
            </a:r>
            <a:r>
              <a:rPr b="0" lang="en-US" sz="4000" spc="-1" strike="noStrike">
                <a:solidFill>
                  <a:srgbClr val="808080"/>
                </a:solidFill>
                <a:latin typeface="Gill Sans Ultra Bold Condensed"/>
              </a:rPr>
              <a:t>por jugando con sus amig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Gill Sans Ultra Bold Condensed"/>
              </a:rPr>
              <a:t>Cuando Buzzy esta muy cansado, se acuesta. Buenos noch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28:14Z</dcterms:created>
  <dc:creator>christensensar</dc:creator>
  <dc:description/>
  <dc:language>en-US</dc:language>
  <cp:lastModifiedBy>christensensar</cp:lastModifiedBy>
  <dcterms:modified xsi:type="dcterms:W3CDTF">2012-04-05T13:23:56Z</dcterms:modified>
  <cp:revision>4</cp:revision>
  <dc:subject/>
  <dc:title>LA RUTINA DE BUZZY EL ABEJA</dc:title>
</cp:coreProperties>
</file>